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4400" y="726840"/>
            <a:ext cx="2511720" cy="36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7E3CEB6D-8005-4BA9-9D15-BF31B18EF0E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079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F236B5BC-38EC-4622-9C50-EDBDF05B3FA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174760" y="727200"/>
            <a:ext cx="2511720" cy="36255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E6E-4017-4A6A-A0A4-54466D1A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ABF-C395-43E4-89CD-188B13F7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1C3-6281-4F14-B309-4DE6E4FD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767-475C-435D-B24A-D563D3DA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BB3-5AD4-4D86-910A-AC949AF3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F59-5AC8-4B37-95E9-9FB4F210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2AC-180F-4D1A-B258-B9A8D280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A46-8924-4993-970F-157BE53D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AA7-5AD5-434D-A5FF-28A276B3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A54-FAEC-4829-8DF2-A84CF087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BDC-3E4E-4508-8A7E-A5A293EC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43A-39DB-4728-9F2A-1515C47A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84814BED-88D1-4D78-8303-457609087718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24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97"/>
          <p:cNvSpPr/>
          <p:nvPr/>
        </p:nvSpPr>
        <p:spPr>
          <a:xfrm>
            <a:off x="533520" y="1676520"/>
            <a:ext cx="5919840" cy="1339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Cserey Janosne, situata intre strada Ghioceilor si Panorama Lunii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255"/>
          <p:cNvSpPr txBox="1"/>
          <p:nvPr/>
        </p:nvSpPr>
        <p:spPr>
          <a:xfrm>
            <a:off x="1752480" y="7924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TIZA TEH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09-02-10T18:44:43Z</cp:lastPrinted>
  <dcterms:modified xsi:type="dcterms:W3CDTF">2014-06-08T13:20:19Z</dcterms:modified>
  <cp:revision>179</cp:revision>
  <dc:subject/>
  <dc:title>PowerPoint Presentation</dc:title>
</cp:coreProperties>
</file>